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6B91-A397-48FA-91CE-A7FABACDE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EF17-B4F2-41AC-8C7C-950B7F5CC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3F9C-BB94-4F17-9F97-91CF984B1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865A-EFBF-4271-B9F8-50B9FD2EE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CA4C-CD50-449B-93D6-7976822B7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3BAA-E295-4A52-AEA9-59539F96C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7B64-70DD-4FE3-8767-78C5C0546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3E28-5927-4E4D-BF4D-50D12F08E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3C4C-715A-4034-A0B8-D5F4C0210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8E13-B399-4738-AC73-FB5A2C7B5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DD8F-96ED-4958-9FA6-3D8FFD615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A479-15B5-4E19-A123-361247426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765A-ED7F-4156-BE26-7B17DF463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8DC1-B616-492A-B7AC-E8EBE8443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BE8A-FAB3-4DBB-8E97-120AEA93F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8681-9FA2-4576-82DE-2267DCD28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017C-0785-4006-BAAA-A72B35423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E491-ACA7-4FB5-B670-37A9909FA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44B0-B5AF-4940-B827-098E6868A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AEBC-C7A8-49A8-A19A-5C6D2FEB2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0217-DF9C-4EE7-928C-5B16707AC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42D8-6865-4938-ADCE-A0A595A47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FF6B-58F4-4B15-8BA9-A85EA252B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1373-5BFD-4CCC-85D0-DD306C980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8E46-78B3-4B7E-BBBC-D5BC2E666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063D-A84B-4446-B0BD-5EB0690A9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3290-2CCD-4B3D-9543-73E037D1B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8E4D-3AB0-4500-A252-27E7E51E9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6931-8278-47AD-9E05-C3E08274D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4D4F-FBE2-464C-9FEF-7DFB0262C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B070-9895-4984-9BC5-21F59D2D6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9F36-D0E9-46A3-BB91-69F3749B3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E50A-1913-4064-81A2-116042402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EE06-917B-49DE-9ED4-D5DACB7F1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C140-DD0E-4774-AF0D-9EFA291C7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EC55-8921-45EF-BF73-803A96E7B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1F5D-6998-490C-9DA8-3026B3A6A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FC4D-5259-444A-8681-CA02803ED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037A-B309-45B7-8D7A-F7A028BBE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5619-244D-4670-B93B-8F42DC842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FBAD-7696-4E1E-BBA4-E4B05B45E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F291-98B7-46EF-8D5C-82AFF2C2E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E81D-0DED-4663-AFE0-9624C8CCD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9BBA-43FB-4B48-89FA-C7D75831F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517C-2FDC-48AA-8A7E-AB4E0E406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E318-746C-47F3-98D6-BE642E8BF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AF2F-55A2-4F43-BF8D-81129FEDF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B9B5-C1B9-430F-ABF1-20478545D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D5AF-3CA5-4A22-87D2-77BE1D788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6FD7-0C98-4E73-A811-48003373F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0FDF-5AEC-451B-A50D-11E361DE5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786E-6F3D-48F6-9891-F1E0F4060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88D7-EE10-4C38-8E84-366A9A441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21AC-C132-41CB-97EF-0E8E5E13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9E16-68A1-4247-9FED-31E00C07E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19F1-9B10-47A9-890F-BC1E13C71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EAE7-BEFD-43E3-B6B1-7619F865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8BE2-CDDA-42C7-A5E2-07A0F580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E7CD-4456-4766-B859-22E294A2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A035-EA4A-4AF5-B1A1-E6BC7E0E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304E-6513-43F9-8E12-6C6E8FB4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2747-B9A3-4E77-AA40-C52B0B22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DA2F-FA06-4E85-9E50-EEE78442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5BDF-D3E7-4F17-A3C2-B538E0C0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09FF-B8C8-442F-8EDA-87571A959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image" Target="../media/image3.png"/><Relationship Id="rId6" Type="http://schemas.openxmlformats.org/officeDocument/2006/relationships/slide" Target="slide7.xml"/><Relationship Id="rId7" Type="http://schemas.openxmlformats.org/officeDocument/2006/relationships/slide" Target="slide54.xml"/><Relationship Id="rId8" Type="http://schemas.openxmlformats.org/officeDocument/2006/relationships/image" Target="../media/image3.png"/><Relationship Id="rId9" Type="http://schemas.openxmlformats.org/officeDocument/2006/relationships/slide" Target="slide9.xml"/><Relationship Id="rId10" Type="http://schemas.openxmlformats.org/officeDocument/2006/relationships/slide" Target="slide16.xml"/><Relationship Id="rId11" Type="http://schemas.openxmlformats.org/officeDocument/2006/relationships/image" Target="../media/image3.png"/><Relationship Id="rId12" Type="http://schemas.openxmlformats.org/officeDocument/2006/relationships/slide" Target="slide11.xml"/><Relationship Id="rId13" Type="http://schemas.openxmlformats.org/officeDocument/2006/relationships/slide" Target="slide20.xml"/><Relationship Id="rId14" Type="http://schemas.openxmlformats.org/officeDocument/2006/relationships/image" Target="../media/image3.png"/><Relationship Id="rId15" Type="http://schemas.openxmlformats.org/officeDocument/2006/relationships/slide" Target="slide13.xml"/><Relationship Id="rId16" Type="http://schemas.openxmlformats.org/officeDocument/2006/relationships/slide" Target="slide19.xml"/><Relationship Id="rId17" Type="http://schemas.openxmlformats.org/officeDocument/2006/relationships/image" Target="../media/image3.png"/><Relationship Id="rId18" Type="http://schemas.openxmlformats.org/officeDocument/2006/relationships/slide" Target="slide15.xml"/><Relationship Id="rId19" Type="http://schemas.openxmlformats.org/officeDocument/2006/relationships/slide" Target="slide28.xml"/><Relationship Id="rId20" Type="http://schemas.openxmlformats.org/officeDocument/2006/relationships/image" Target="../media/image3.png"/><Relationship Id="rId21" Type="http://schemas.openxmlformats.org/officeDocument/2006/relationships/slide" Target="slide17.xml"/><Relationship Id="rId22" Type="http://schemas.openxmlformats.org/officeDocument/2006/relationships/slide" Target="slide32.xml"/><Relationship Id="rId23" Type="http://schemas.openxmlformats.org/officeDocument/2006/relationships/image" Target="../media/image3.png"/><Relationship Id="rId24" Type="http://schemas.openxmlformats.org/officeDocument/2006/relationships/slide" Target="slide19.xml"/><Relationship Id="rId25" Type="http://schemas.openxmlformats.org/officeDocument/2006/relationships/slide" Target="slide36.xml"/><Relationship Id="rId26" Type="http://schemas.openxmlformats.org/officeDocument/2006/relationships/image" Target="../media/image3.png"/><Relationship Id="rId27" Type="http://schemas.openxmlformats.org/officeDocument/2006/relationships/slide" Target="slide21.xml"/><Relationship Id="rId28" Type="http://schemas.openxmlformats.org/officeDocument/2006/relationships/slide" Target="slide41.xml"/><Relationship Id="rId29" Type="http://schemas.openxmlformats.org/officeDocument/2006/relationships/image" Target="../media/image3.png"/><Relationship Id="rId30" Type="http://schemas.openxmlformats.org/officeDocument/2006/relationships/slide" Target="slide23.xml"/><Relationship Id="rId31" Type="http://schemas.openxmlformats.org/officeDocument/2006/relationships/slide" Target="slide44.xml"/><Relationship Id="rId32" Type="http://schemas.openxmlformats.org/officeDocument/2006/relationships/image" Target="../media/image3.png"/><Relationship Id="rId33" Type="http://schemas.openxmlformats.org/officeDocument/2006/relationships/slide" Target="slide25.xml"/><Relationship Id="rId34" Type="http://schemas.openxmlformats.org/officeDocument/2006/relationships/slide" Target="slide48.xml"/><Relationship Id="rId35" Type="http://schemas.openxmlformats.org/officeDocument/2006/relationships/image" Target="../media/image3.png"/><Relationship Id="rId36" Type="http://schemas.openxmlformats.org/officeDocument/2006/relationships/slide" Target="slide27.xml"/><Relationship Id="rId37" Type="http://schemas.openxmlformats.org/officeDocument/2006/relationships/slide" Target="slide52.xml"/><Relationship Id="rId38" Type="http://schemas.openxmlformats.org/officeDocument/2006/relationships/image" Target="../media/image3.png"/><Relationship Id="rId39" Type="http://schemas.openxmlformats.org/officeDocument/2006/relationships/slide" Target="slide29.xml"/><Relationship Id="rId40" Type="http://schemas.openxmlformats.org/officeDocument/2006/relationships/slide" Target="slide30.xml"/><Relationship Id="rId41" Type="http://schemas.openxmlformats.org/officeDocument/2006/relationships/image" Target="../media/image3.png"/><Relationship Id="rId42" Type="http://schemas.openxmlformats.org/officeDocument/2006/relationships/slide" Target="slide31.xml"/><Relationship Id="rId43" Type="http://schemas.openxmlformats.org/officeDocument/2006/relationships/slide" Target="slide32.xml"/><Relationship Id="rId44" Type="http://schemas.openxmlformats.org/officeDocument/2006/relationships/image" Target="../media/image3.png"/><Relationship Id="rId45" Type="http://schemas.openxmlformats.org/officeDocument/2006/relationships/slide" Target="slide33.xml"/><Relationship Id="rId46" Type="http://schemas.openxmlformats.org/officeDocument/2006/relationships/slide" Target="slide34.xml"/><Relationship Id="rId47" Type="http://schemas.openxmlformats.org/officeDocument/2006/relationships/image" Target="../media/image3.png"/><Relationship Id="rId48" Type="http://schemas.openxmlformats.org/officeDocument/2006/relationships/slide" Target="slide35.xml"/><Relationship Id="rId49" Type="http://schemas.openxmlformats.org/officeDocument/2006/relationships/slide" Target="slide36.xml"/><Relationship Id="rId50" Type="http://schemas.openxmlformats.org/officeDocument/2006/relationships/image" Target="../media/image3.png"/><Relationship Id="rId51" Type="http://schemas.openxmlformats.org/officeDocument/2006/relationships/slide" Target="slide37.xml"/><Relationship Id="rId52" Type="http://schemas.openxmlformats.org/officeDocument/2006/relationships/slide" Target="slide38.xml"/><Relationship Id="rId53" Type="http://schemas.openxmlformats.org/officeDocument/2006/relationships/image" Target="../media/image3.png"/><Relationship Id="rId54" Type="http://schemas.openxmlformats.org/officeDocument/2006/relationships/slide" Target="slide39.xml"/><Relationship Id="rId55" Type="http://schemas.openxmlformats.org/officeDocument/2006/relationships/image" Target="../media/image3.png"/><Relationship Id="rId56" Type="http://schemas.openxmlformats.org/officeDocument/2006/relationships/image" Target="../media/image3.png"/><Relationship Id="rId57" Type="http://schemas.openxmlformats.org/officeDocument/2006/relationships/image" Target="../media/image3.png"/><Relationship Id="rId58" Type="http://schemas.openxmlformats.org/officeDocument/2006/relationships/image" Target="../media/image3.png"/><Relationship Id="rId59" Type="http://schemas.openxmlformats.org/officeDocument/2006/relationships/image" Target="../media/image3.png"/><Relationship Id="rId60" Type="http://schemas.openxmlformats.org/officeDocument/2006/relationships/image" Target="../media/image3.png"/><Relationship Id="rId61" Type="http://schemas.openxmlformats.org/officeDocument/2006/relationships/image" Target="../media/image3.png"/><Relationship Id="rId62" Type="http://schemas.openxmlformats.org/officeDocument/2006/relationships/slideLayout" Target="../slideLayouts/slideLayout1.xml"/><Relationship Id="rId6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Ecosystem Jeopard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view G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MacOS" descr=""/>
          <p:cNvPicPr/>
          <p:nvPr/>
        </p:nvPicPr>
        <p:blipFill>
          <a:blip r:embed="rId1"/>
          <a:stretch/>
        </p:blipFill>
        <p:spPr>
          <a:xfrm>
            <a:off x="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2459160" y="3067200"/>
            <a:ext cx="5018040" cy="338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hat is an omnivo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 environment that has living and nonliving things that interac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hat is an eco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0960" y="233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he specific role or job an organism has in its habita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hat is a nich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ll the members of one species that live within an area of an ecosyste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hat is a popul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6204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he different populations that interact with each other in the same are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hat is a communi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14320" y="256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 specific body part that helps an organism survive in its habita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2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3" action="ppaction://hlinksldjump"/>
              </a:rPr>
              <a:t>$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3">
            <a:hlinkClick r:id="rId4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6" action="ppaction://hlinksldjump"/>
              </a:rPr>
              <a:t>$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4">
            <a:hlinkClick r:id="rId7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9" action="ppaction://hlinksldjump"/>
              </a:rPr>
              <a:t>$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5">
            <a:hlinkClick r:id="rId10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12" action="ppaction://hlinksldjump"/>
              </a:rPr>
              <a:t>$2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6">
            <a:hlinkClick r:id="rId13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15" action="ppaction://hlinksldjump"/>
              </a:rPr>
              <a:t>$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7">
            <a:hlinkClick r:id="rId16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18" action="ppaction://hlinksldjump"/>
              </a:rPr>
              <a:t>$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8">
            <a:hlinkClick r:id="rId19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21" action="ppaction://hlinksldjump"/>
              </a:rPr>
              <a:t>$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9">
            <a:hlinkClick r:id="rId22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24" action="ppaction://hlinksldjump"/>
              </a:rPr>
              <a:t>$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0">
            <a:hlinkClick r:id="rId25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27" action="ppaction://hlinksldjump"/>
              </a:rPr>
              <a:t>$2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1">
            <a:hlinkClick r:id="rId28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30" action="ppaction://hlinksldjump"/>
              </a:rPr>
              <a:t>$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2">
            <a:hlinkClick r:id="rId3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33" action="ppaction://hlinksldjump"/>
              </a:rPr>
              <a:t>$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3">
            <a:hlinkClick r:id="rId34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36" action="ppaction://hlinksldjump"/>
              </a:rPr>
              <a:t>$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4">
            <a:hlinkClick r:id="rId37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39" action="ppaction://hlinksldjump"/>
              </a:rPr>
              <a:t>$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5">
            <a:hlinkClick r:id="rId40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42" action="ppaction://hlinksldjump"/>
              </a:rPr>
              <a:t>$2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6">
            <a:hlinkClick r:id="rId43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45" action="ppaction://hlinksldjump"/>
              </a:rPr>
              <a:t>$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7">
            <a:hlinkClick r:id="rId46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48" action="ppaction://hlinksldjump"/>
              </a:rPr>
              <a:t>$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18">
            <a:hlinkClick r:id="rId49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51" action="ppaction://hlinksldjump"/>
              </a:rPr>
              <a:t>$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9">
            <a:hlinkClick r:id="rId52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54" action="ppaction://hlinksldjump"/>
              </a:rPr>
              <a:t>$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20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$2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21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$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22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$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$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$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5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$2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6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$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33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cabula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28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33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s of a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cosyste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29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t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ow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0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erg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ow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1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n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out It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33"/>
          <p:cNvSpPr/>
          <p:nvPr/>
        </p:nvSpPr>
        <p:spPr>
          <a:xfrm>
            <a:off x="0" y="0"/>
            <a:ext cx="380880" cy="3049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hat is an adapt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01720" y="284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 group of different parts that work together to perform a func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hat is a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he main source of energy in any ecosyste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hat is the su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How many directions a food chain can flo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hat is 1 dire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hese organisms produce their own food from energy they received from the su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hat are produc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hese organisms must consume energy from other organism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 organism that gets its energy from eating mea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82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hat are consum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hese are 2 items that decomposers help put back into the soi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hat are nutrients and minera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his diagram shows how food chains in an ecosystem are connect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hat is a food we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his is the kind of temperature in which decay occurs the fastes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hat is hot/war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wo factors that speed up the decaying proces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hat ar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armer temperature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moisture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xy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 gas that is released into the atmosphere during the decay proces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Verdana"/>
              </a:rPr>
              <a:t>What is a carnivore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hat is carbon dioxid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944720"/>
            <a:ext cx="7772400" cy="25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he result of an ecosystem that has no decompose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hat are too many dead organism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66720" y="11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reason why a grasshopper population may decrease in the ecosystem be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0" descr=""/>
          <p:cNvPicPr/>
          <p:nvPr/>
        </p:nvPicPr>
        <p:blipFill>
          <a:blip r:embed="rId1"/>
          <a:stretch/>
        </p:blipFill>
        <p:spPr>
          <a:xfrm>
            <a:off x="1920960" y="2502000"/>
            <a:ext cx="533376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22868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sible answer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grass dies and they have no food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nakes overpopulate and eat them al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kookaburras overpopulate and eat them all.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2835360" y="4114800"/>
            <a:ext cx="3581280" cy="2419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xplain what would happen if the snake population disappeared in this ecosyste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0" descr=""/>
          <p:cNvPicPr/>
          <p:nvPr/>
        </p:nvPicPr>
        <p:blipFill>
          <a:blip r:embed="rId1"/>
          <a:stretch/>
        </p:blipFill>
        <p:spPr>
          <a:xfrm>
            <a:off x="2297160" y="3429000"/>
            <a:ext cx="460044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sible answers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agle would eat more kookaburras and the kookaburras would decrease in population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asshoppers and mice could overpopulate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2862360" y="3268800"/>
            <a:ext cx="3581280" cy="2419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ame one food chain that is a part of this food web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2041560" y="1822320"/>
            <a:ext cx="511488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sible answer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-Sun-orchid-mosquito-frog-raccoon-alligat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-Sun-bladderwort-turtle-alligat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-Sun-orchid-mosquito-carp-heron-alligator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3859200" y="2511360"/>
            <a:ext cx="4962600" cy="4029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960" y="452520"/>
            <a:ext cx="7772400" cy="20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the difference between a producer and a consumer in this eco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0" descr=""/>
          <p:cNvPicPr/>
          <p:nvPr/>
        </p:nvPicPr>
        <p:blipFill>
          <a:blip r:embed="rId1"/>
          <a:stretch/>
        </p:blipFill>
        <p:spPr>
          <a:xfrm>
            <a:off x="1974960" y="1930320"/>
            <a:ext cx="511488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 organism that gets its energy from eating plan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ducers produce their own food with energy gained from the su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umers get energy by consuming other organis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054160" y="2401920"/>
            <a:ext cx="5114880" cy="41529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t the following steps in order to tell how a decomposer affects an ecosystem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_____ Finally, animals eat the plant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_____ Next, minerals and nutrients are put bac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into the soi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_____ First, decomposers digest the waste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the remains of dead animal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_____ Then living plants use the nutr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rst, decomposers digest the waste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the remains of dead animal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xt, minerals and nutrients are put bac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into the soil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n living plants use the nutrients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ally, animals eat the plant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Jeopardy Answer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difference between an animal’s niche and its habita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MacOS" descr=""/>
          <p:cNvPicPr/>
          <p:nvPr/>
        </p:nvPicPr>
        <p:blipFill>
          <a:blip r:embed="rId1"/>
          <a:stretch/>
        </p:blipFill>
        <p:spPr>
          <a:xfrm>
            <a:off x="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0960" y="1603080"/>
            <a:ext cx="7772400" cy="28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 animal’s niche is its specific role or job in an ecosystem.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 animal’s habitat is simply Slide 2where it liv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82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What is an herbivor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 organism that breaks down dead plants and animals into nutrients for the soi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hat is a decompos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 organism that gets energy by eating both plants and animal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01:35:33Z</dcterms:created>
  <dc:creator>Heather</dc:creator>
  <dc:description/>
  <dc:language>en-US</dc:language>
  <cp:lastModifiedBy>udsd</cp:lastModifiedBy>
  <dcterms:modified xsi:type="dcterms:W3CDTF">2011-10-26T18:11:56Z</dcterms:modified>
  <cp:revision>9</cp:revision>
  <dc:subject/>
  <dc:title>Ecosystem Jeopardy</dc:title>
</cp:coreProperties>
</file>